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ADD6-1D0F-45B4-9865-954D4C4B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C87-88A4-45D0-8303-D07D56F1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B3A-EB59-4BD1-BA0C-05005419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DB5A-706A-417E-AEAF-39415BF9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6305-D318-4F9E-B89D-FF3BA575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8C62-8A7D-4580-8CDB-6837FF9A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1C7F-8992-4B3C-8699-C2E5E93F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5D0E-A383-45E9-A957-6B20A9D7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6FF6-47A1-49C4-94B2-F7A20AE3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AACA-34C9-49F6-B416-E6C77BB8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F027-53E0-492F-B97E-430C0886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152-F101-4154-9126-C0790057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A4D5-178B-4029-9FBA-6FCE6BFC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46E1-56AC-4BA0-A74A-98BD3F66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B42B-28E5-4416-9E11-DBCF81A5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4A83-605A-4C34-B9BD-CFC853C9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968A-033F-49F4-B586-CDD71869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98D-FF4D-4F07-9A33-37AECD4A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269A-7712-44C3-A46C-74CB5D87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98C-C4DE-4E1E-9C1B-F6B43677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4E2-D966-4BEA-ACC8-EA8D79D7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5E6-4D88-4807-A0C0-AC5F16A4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D6DD-02B0-492C-A5AB-F0720188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19F-721F-47D7-9B54-65605B76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4668-4CAE-4705-A75B-5798D714E30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D719-187E-480E-8644-6DA4568B7C1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tionary.org/wiki/tr:erk" TargetMode="External"/><Relationship Id="rId2" Type="http://schemas.openxmlformats.org/officeDocument/2006/relationships/hyperlink" Target="http://tr.wikipedia.org/wiki/Vicdan" TargetMode="External"/><Relationship Id="rId3" Type="http://schemas.openxmlformats.org/officeDocument/2006/relationships/hyperlink" Target="http://tr.wikipedia.org/wiki/&#304;taat" TargetMode="External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MİLGRAM DENEY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30480" y="2270160"/>
            <a:ext cx="467352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3860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ünümüz otorite prof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7650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kıcı otorite prof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0240" y="2060640"/>
            <a:ext cx="64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tı disiplin, kayıtsız şartsız itaat  sağlan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30920" y="263700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rku ve belirsizlik hakimdi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3480" y="4653000"/>
            <a:ext cx="748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eyleri gurup ve ekip çalışmasına yönlendirer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birlikten doğan kuvve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ehlike olarak yorumlam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4360" y="3141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ünümüz otorite prof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7650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kıcı otorite prof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1413000"/>
            <a:ext cx="758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Özgürlük ve hukuk sadece üst tabaka için uygulanabilir kurallar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1120" y="4363920"/>
            <a:ext cx="67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çme özgürlüğü sunar, tercihlere saygılı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8360" y="38448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ünümüz otorite prof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rensel doğruları benimser, farklılıkları fark e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klılık olması teşvik edilen bir olgud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2602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kıcı otorite prof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765000"/>
            <a:ext cx="7488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 doğru, tek düşünce ve tek yetki var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lar yerine bireyleri hedef alan projeler üretir ve uyg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68360" y="3844800"/>
            <a:ext cx="799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ünümüz otorite prof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jiyi ve teknolojinin sunduğu tüm imkanları toplumun gelişimi için kullan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2602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kıcı otorite prof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765000"/>
            <a:ext cx="748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jiyi ve teknolojinin sunduğu tüm imkanları baskı aracı olarak kullan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3240" y="547920"/>
            <a:ext cx="54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kratik öğretm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klılıkların farkındadı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1960" y="2202840"/>
            <a:ext cx="573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oriter öğretm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 doğru, tek düşünü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 tek yetkiyi temsil e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44040" y="1195200"/>
            <a:ext cx="570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klı bakış açılarını dinl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umlu ve olumsuz yönleri betiml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umluları da söyler olumsuzları da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7800" y="33336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kratik öğret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0040" y="4435920"/>
            <a:ext cx="57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Öğrenciler için en iyisine o karar ver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7640" y="378936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oriter öğretme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38240" y="4290840"/>
            <a:ext cx="733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Övgüye çok az yer ver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u bir silah olarak kullan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Öğrencilerle ilişkilerde mesafeli, bazen de sertti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4560" y="35002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oriter öğretme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38960" y="1731960"/>
            <a:ext cx="607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imsemese b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ara güvenilir bir sınıf atmosferi sun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7800" y="4762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kratik öğret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97800" y="33336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kratik öğret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7640" y="378936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oriter öğretme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74200" y="4435200"/>
            <a:ext cx="641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Öğrenciler itaatk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kat öğretmenlerinden nefret etme eğili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çinde olur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76000" y="1266840"/>
            <a:ext cx="499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 arada yaşamının ve etkinlik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lunmanın hazzını kazandır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908000" y="328464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şekkürl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68000" y="907920"/>
            <a:ext cx="755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İLGRAM DENEY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İnsanların 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er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 (otorite) sahibi bir kişi veya kurumun isteklerine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ndi 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vicdan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ğerleriyle çelişmesine  rağme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ita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 etmeye ne ölçüde istekli olduklarını ölçme amacını güden bir deneyler dizisinin genel adıdır.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11280" y="61956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 u="sng">
                <a:solidFill>
                  <a:srgbClr val="000000"/>
                </a:solidFill>
                <a:uFillTx/>
                <a:latin typeface="Arial"/>
              </a:rPr>
              <a:t>DENEY SONUÇL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adece görevlerini yapan, kendi başlarına vahşi işlere kalkışmayan sıradan insanlar, korkunç bir yok etme işleminin bir parçası olabilmekted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atılan deneklerin </a:t>
            </a: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%60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lık kısmı, yaptıkları işin yıkıcı sonuçlarını apaçık görmelerine rağmen devam etmiş,  </a:t>
            </a:r>
            <a:r>
              <a:rPr b="1" lang="tr-TR" sz="3200" spc="-1" strike="noStrike">
                <a:solidFill>
                  <a:srgbClr val="cc0000"/>
                </a:solidFill>
                <a:latin typeface="Arial"/>
              </a:rPr>
              <a:t>%40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lık bölümü ise temel ahlak değerleriyle çelişen bu görevi reddetmişler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067280" y="836640"/>
            <a:ext cx="3881160" cy="5149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3330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08032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itle iletişim araçları bireyi ortadan kaldırıp tek tip, düşünemeyen bir kalabalık üretir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3105720"/>
            <a:ext cx="757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baskıcı rejimin elindeki  bu çağda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iletişim araçları, hayatı ade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cehenneme çevirip insanları koşulsu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İtaate zor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Otoriteye mutlak itaat sözkonusud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493040" cy="4064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19280" y="4939560"/>
            <a:ext cx="698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Sahtekarlığın evrensel düzeyde egemen olduğu dönemlerd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gerçekleri söyleyebilmek devrimci bir eylem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George Or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843280" y="765000"/>
            <a:ext cx="2952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067280" y="1557360"/>
            <a:ext cx="4533840" cy="4762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412720" cy="1917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564000" y="47628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BASKI VE OTORİ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20:32:30Z</dcterms:created>
  <dc:creator>TÜRK</dc:creator>
  <dc:description/>
  <dc:language>en-US</dc:language>
  <cp:lastModifiedBy>TÜRK</cp:lastModifiedBy>
  <dcterms:modified xsi:type="dcterms:W3CDTF">2012-10-16T07:15:51Z</dcterms:modified>
  <cp:revision>6</cp:revision>
  <dc:subject/>
  <dc:title>Slayt 1</dc:title>
</cp:coreProperties>
</file>